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C0F-8BCA-4477-862A-DF85F2F5E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0B1-E48C-4270-98F6-97014AA65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339B-C6EB-4DB5-9034-1B8AEEBF3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5469-888B-4463-A6B2-46B7D8F1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778B-EB2B-44F5-936D-4FA572D1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D14D-0D7F-4AC7-8F11-990BEED0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2EDF-CD62-48E6-B845-AF41EE9F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7F3-4629-4CBD-861E-1253D643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4228-E155-48D5-865A-177EE809D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2E7A-28DB-4C85-86D1-8A1596C1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DEA6-27BF-497D-B313-6765BA3B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F92-2E05-43EA-AB6D-D0F428B1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F8E1-7893-45E2-8D4E-95F0B143C5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539040" y="643896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CC2A1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 Mobilization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6760"/>
            <a:ext cx="8229600" cy="35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54296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Mobilization Proced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54296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542960"/>
                <a:tab algn="l" pos="4629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10348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86000" indent="0">
              <a:spcBef>
                <a:spcPts val="799"/>
              </a:spcBef>
              <a:buNone/>
              <a:tabLst>
                <a:tab algn="l" pos="0"/>
                <a:tab algn="l" pos="234324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dition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AR 600-8-101 (In-, Out-, and Soldier Readiness, Mobilization, and Deployment Processing) and DA Form 7425 (Readiness and Deployment Checklis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al Learning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6796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1146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andard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Identified the different Levels of Readiness and Mobilization Processing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146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146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Identified correct procedures and requirements for Soldier Readiness Processing using DA Form 742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0T19:10:42Z</dcterms:created>
  <dc:creator>ADG</dc:creator>
  <dc:description/>
  <dc:language>en-US</dc:language>
  <cp:lastModifiedBy>Administrator</cp:lastModifiedBy>
  <cp:lastPrinted>1998-11-10T22:32:18Z</cp:lastPrinted>
  <dcterms:modified xsi:type="dcterms:W3CDTF">2005-07-08T12:19:04Z</dcterms:modified>
  <cp:revision>6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S:\TD\Tdd\ANCOC\75H CTDF\ANNEX C\CCC5H103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